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83300-13C0-43CB-8280-33C9DB2E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7015C-7567-4CEE-8488-2E2A34E8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B9E09-3D69-418F-838A-8736E6E2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D42268-59DF-437A-B5B6-D4B64CE0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3BADD-8945-4592-866F-99566B77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A3104-9F70-447C-80A7-D30E0D01D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27864-2FB2-41D1-B383-7438A5CB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9E6F6-84B5-4EC5-97A7-4EF6F45E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73681-CE83-44FD-B8E2-85CC1632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6121A-5296-4622-A818-262F0629D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96532-7B0A-40B2-B6BB-CD080E25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EF6D-9DD1-4DFE-8D57-9FB94BAA4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F32E-8F9F-4B34-94A0-22C63892B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FE13-068E-4E6A-89B2-4A83853F1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E310-9C75-42AF-838A-D88D9B7C5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5E2D-C705-4D7B-9BB6-2D472E39D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4E5B-DD21-47C0-BFC6-5D5C87BAF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BA69-23B1-4C6B-A535-9B468261A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C74E-74C0-41F5-9AE0-5D0C5B5FB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F53D-35F2-4E27-9E5D-FA068FFD6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FE9C-6E30-444E-B0B4-4F5FD4F4F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CAD7-CCDF-4F4B-9CA1-E47612ADE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935D-AA29-44EA-B5A1-2256F0DD7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880B-5B01-4580-8B63-54FBAAEA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4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20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73392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Capule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ba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balt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to go fight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that Juliet just needs to learn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had a fun day today!&lt;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wants to leave toda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for the Capulet Ball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602000" cy="6667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668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mportant thing in life is to learn how to give out love, and to let it come in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58" descr=""/>
          <p:cNvPicPr/>
          <p:nvPr/>
        </p:nvPicPr>
        <p:blipFill>
          <a:blip r:embed="rId5"/>
          <a:stretch/>
        </p:blipFill>
        <p:spPr>
          <a:xfrm>
            <a:off x="2057400" y="3124080"/>
            <a:ext cx="530280" cy="5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2" descr=""/>
          <p:cNvPicPr/>
          <p:nvPr/>
        </p:nvPicPr>
        <p:blipFill>
          <a:blip r:embed="rId6"/>
          <a:stretch/>
        </p:blipFill>
        <p:spPr>
          <a:xfrm>
            <a:off x="152280" y="5562720"/>
            <a:ext cx="37800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"/>
          <p:cNvPicPr/>
          <p:nvPr/>
        </p:nvPicPr>
        <p:blipFill>
          <a:blip r:embed="rId7"/>
          <a:stretch/>
        </p:blipFill>
        <p:spPr>
          <a:xfrm>
            <a:off x="685800" y="556272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80880" y="457200"/>
            <a:ext cx="116388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2057400" y="2514600"/>
            <a:ext cx="4827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057400" y="44197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2057400" y="51055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2057400" y="57913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2057400" y="3657600"/>
            <a:ext cx="48564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1219320" y="5562720"/>
            <a:ext cx="4856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20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5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ne 15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tching movies and hanging out with my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Being with friends and shopping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ylor Swift, Ke$ha, and Rihan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 and Sandra Bullock movi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dezillas and  What Not To We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mantic Novels. I don’t really have a favorite one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e </a:t>
            </a:r>
            <a:r>
              <a:rPr b="0" lang="en-US" sz="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Fri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Friend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five month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808) 325-894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80" y="1828800"/>
          <a:ext cx="1485720" cy="839880"/>
        </p:xfrm>
        <a:graphic>
          <a:graphicData uri="http://schemas.openxmlformats.org/drawingml/2006/table">
            <a:tbl>
              <a:tblPr/>
              <a:tblGrid>
                <a:gridCol w="1485720"/>
              </a:tblGrid>
              <a:tr h="842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mportant thing in life is to learn how to give out love, and to let it come in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28600" y="457200"/>
            <a:ext cx="1163520" cy="12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52280" y="53341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50796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58672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Lady Capul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 I think you should listen to your dad and marry Paris.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don’t even like him, why would I marry someone that I don’t like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 Just listen to him because you know if you don’t marry Paris then your father will disown you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Then just let him disown me. I will think about it but I’m not going to promise you anything.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Hopefully you do what he wants you to do and listen to him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told you I would think about it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Okay..…make the right decision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 everyone wants me to marry Paris and usually everyone listens to their parents when they tell them they have to marry somebody. But seriously, why would I marry someone that I don’t like and I definitely don’t love him. I guess I will just have to think about it and take everything into consideration. But they never think about what I want. At first they did think about it and it was kind of my choice so I don’t know why my dad changed his mind about it. What if I already loved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cousin Tybalt was just stabbed, this is going to be a say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6192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1600" y="2057400"/>
            <a:ext cx="609588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This is B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 Something horrible happened!!!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is all set and he will be 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82548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57200" y="3505320"/>
            <a:ext cx="863640" cy="121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3" descr=""/>
          <p:cNvPicPr/>
          <p:nvPr/>
        </p:nvPicPr>
        <p:blipFill>
          <a:blip r:embed="rId7"/>
          <a:stretch/>
        </p:blipFill>
        <p:spPr>
          <a:xfrm>
            <a:off x="228600" y="5334120"/>
            <a:ext cx="1015920" cy="1066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11400" y="5745960"/>
            <a:ext cx="33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believe those Montagues crash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80880" y="1981080"/>
            <a:ext cx="91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1600200" y="1981080"/>
            <a:ext cx="64008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is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 Something horrible happened! I’m sorry Juliet he's dead. I just went and talked to Friar Lawrence and he's dead! I can’t believe this happened. Tybalt is dead. Your man, Romeo, stabbed him in a fight. So now Romeo is getting banished tomorrow. He is going to come over tonight so he can see you before he has to leave. I am sooo sorry Juliet but this was his own fault. If he wouldn’t have stabbed Tybalt none of this would’ve happened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82728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11606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1600200" y="19810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is all set and he will be over here sometime soon. I talked to Romeo about it and he just doesn’t wan to get caught because your parents hate each other. He said he loves you too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, that’s good that he can come over and I really don’t want to get caught either. That would be horrible!!! Well, I’m pretty sure I love him too.&lt;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5708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1306440" cy="1447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04920" y="1752480"/>
            <a:ext cx="1133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1828800" y="1981080"/>
            <a:ext cx="6400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believe those Montagues crashed the ball! They would do something like that because our families hate each other. I hope they get punished a lot. Or, maybe even being banished would be good hah. Well I hope you had a good time at the ball last n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0" y="1752480"/>
            <a:ext cx="181296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3"/>
          <p:cNvSpPr/>
          <p:nvPr/>
        </p:nvSpPr>
        <p:spPr>
          <a:xfrm>
            <a:off x="1752480" y="44956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no, this is horrible! I can’t believe Romeo would do that to my cousin! I’m going to need to talk to him about it tonight when he comes over. Everyone is going to be sad but I am more sad about Romeo leaving. I will just act like its because Tybalt is dea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75708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444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43</cp:lastModifiedBy>
  <dcterms:modified xsi:type="dcterms:W3CDTF">2010-05-17T15:25:49Z</dcterms:modified>
  <cp:revision>56</cp:revision>
  <dc:subject/>
  <dc:title>Profile</dc:title>
</cp:coreProperties>
</file>